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BA93-CDC4-447E-8D1F-DA1B017B8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16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1523880"/>
            <a:ext cx="7162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3912120"/>
            <a:ext cx="7162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CDA3-3BA9-4EFA-B755-AC9142CAC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16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1523880"/>
            <a:ext cx="3495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5480" y="1523880"/>
            <a:ext cx="3495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3912120"/>
            <a:ext cx="3495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5480" y="3912120"/>
            <a:ext cx="3495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9970-0056-4084-B73C-A03F6766C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16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1523880"/>
            <a:ext cx="230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16640" y="1523880"/>
            <a:ext cx="230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38720" y="1523880"/>
            <a:ext cx="230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3912120"/>
            <a:ext cx="230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16640" y="3912120"/>
            <a:ext cx="230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38720" y="3912120"/>
            <a:ext cx="230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553E-66BB-4EED-9F68-9EDD4861C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DF316-0365-44E8-9B5A-C64D7F2D5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16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294920" y="1523880"/>
            <a:ext cx="7162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A7345-FC30-429C-9CC5-7C260A90A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16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94920" y="1523880"/>
            <a:ext cx="7162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E86C3-0352-4CBC-A4F1-8C69507BF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16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94920" y="1523880"/>
            <a:ext cx="3495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65480" y="1523880"/>
            <a:ext cx="3495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47571-8F61-443F-93EC-1DE57C8A7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16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2A5F6-EA37-4D4E-ACFE-5FD56F3A2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294920" y="380520"/>
            <a:ext cx="71629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5DC56-7DD7-4843-AE99-7E8D3222C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16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94920" y="1523880"/>
            <a:ext cx="3495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65480" y="1523880"/>
            <a:ext cx="3495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294920" y="3912120"/>
            <a:ext cx="3495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B5513-8F19-4801-A79D-8C35769FA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16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1523880"/>
            <a:ext cx="7162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81CE-21D2-4F69-86D4-911A30A33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16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1523880"/>
            <a:ext cx="3495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65480" y="1523880"/>
            <a:ext cx="3495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65480" y="3912120"/>
            <a:ext cx="3495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7B322-3AFB-42E4-8891-E31B40356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16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94920" y="1523880"/>
            <a:ext cx="3495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65480" y="1523880"/>
            <a:ext cx="3495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94920" y="3912120"/>
            <a:ext cx="7162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1EAE1-9101-4E1B-8637-5949D8DD6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16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4920" y="1523880"/>
            <a:ext cx="7162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294920" y="3912120"/>
            <a:ext cx="7162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8BC52-CD11-468E-82C9-293616541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16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1523880"/>
            <a:ext cx="3495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65480" y="1523880"/>
            <a:ext cx="3495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294920" y="3912120"/>
            <a:ext cx="3495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965480" y="3912120"/>
            <a:ext cx="3495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135FB-047D-432C-A5D7-98C8099EF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16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4920" y="1523880"/>
            <a:ext cx="230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716640" y="1523880"/>
            <a:ext cx="230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8720" y="1523880"/>
            <a:ext cx="230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294920" y="3912120"/>
            <a:ext cx="230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716640" y="3912120"/>
            <a:ext cx="230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8720" y="3912120"/>
            <a:ext cx="230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6ECC8-BAE7-49E4-A470-35E4C30A4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16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1523880"/>
            <a:ext cx="7162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7EC9-CD0D-4522-A39C-B6911CFB0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16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1523880"/>
            <a:ext cx="3495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65480" y="1523880"/>
            <a:ext cx="3495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DA02-83E8-4961-ADA3-4498491CA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16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F97B-C4BA-49FB-9A07-411D44B49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4920" y="380520"/>
            <a:ext cx="71629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6EC0-DB6F-40AE-B453-4EE6EBC6C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16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1523880"/>
            <a:ext cx="3495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5480" y="1523880"/>
            <a:ext cx="3495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3912120"/>
            <a:ext cx="3495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02CA-6C71-47A9-B85F-3EE7B1167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16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1523880"/>
            <a:ext cx="3495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5480" y="1523880"/>
            <a:ext cx="3495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65480" y="3912120"/>
            <a:ext cx="3495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E87A-ED01-4392-8A9F-E12F94CF3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16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1523880"/>
            <a:ext cx="3495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5480" y="1523880"/>
            <a:ext cx="3495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3912120"/>
            <a:ext cx="7162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35A8-EDFB-47D0-A397-266488474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16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4920" y="1523880"/>
            <a:ext cx="7162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D8C60-301D-4169-98FC-0C43840AC5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733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10E81-8335-40DE-AEB3-4982D9BEF0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162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ody Mechanic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16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ody Mechani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4920" y="1523880"/>
            <a:ext cx="7162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rms relating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dy mechan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dy mechanics: using all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dy parts efficiently to saf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ft and m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dy alignments:  refers to correct positioning of head, back, and lim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ure: position of body parts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on to each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16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dy Mechan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94920" y="1523880"/>
            <a:ext cx="7162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rms 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bility:  the ability to m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lance: the ability to maintain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ady position that does not t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dy support: advise used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body at work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ce damage when lifting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ving, and transferring cl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16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dy Mechan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les for proper body mechan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stronger, larger mus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perform tasks which requi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ysical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moving heavy objects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y to push or pull instead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fting the i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16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dy Mechan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4920" y="1219320"/>
            <a:ext cx="7162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ules (continue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 Get help if object feels to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eavy to lif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 Lift in a smooth motion 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vent inju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16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dy Mechan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94920" y="1523880"/>
            <a:ext cx="7162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les 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tain a good pos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oid twisting the bo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d knees, keep back straight, spread feet about one fo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art, and use leg mus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lif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16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ody Mechani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94920" y="1523880"/>
            <a:ext cx="7162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ditions which af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ing, lifting,  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ferring cl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e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ag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mpu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16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dy Mechanic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4920" y="1523880"/>
            <a:ext cx="7162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ditions which affect moving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fting, or transferring clients 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ra equipment nee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tered level of conscious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nguage barri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ring or vision lo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21:21:37Z</dcterms:created>
  <dc:creator>Dave Nelson</dc:creator>
  <dc:description/>
  <dc:language>en-US</dc:language>
  <cp:lastModifiedBy>Mary Chandler</cp:lastModifiedBy>
  <dcterms:modified xsi:type="dcterms:W3CDTF">2001-05-27T22:10:55Z</dcterms:modified>
  <cp:revision>13</cp:revision>
  <dc:subject/>
  <dc:title>No Slide Title</dc:title>
</cp:coreProperties>
</file>